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81EB-BEBE-4DA0-86AA-506155AB4E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0819-5241-47D9-9FBF-992E51A4E9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A279-36C0-4E76-9610-8F4F2F9B96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404A-8980-45FB-A582-4A8C6EC7696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D6BB-FF60-4864-BD94-611A51AEA3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B181-4FC8-42F1-94C1-857CA7964F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D13C-1B79-4E84-B725-4928A67ECC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743C-C21D-47BE-B348-6B0ACD09E6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919A-0744-4361-85DA-CAA9E96B7E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4D0B-63F7-472A-849A-1D3071D29D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3C06-97B8-4B4D-BA1C-AF471152F6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DE3E-3FED-45FA-894C-2D7B75E312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0879-8189-44EC-A237-377256CB6D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C847-FB68-457C-81F2-20AE0BBED5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291F-DA36-4859-B97C-EE4119CE0F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C34D-5E73-4CF4-A4A4-EFA9BEAAD8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A90-9DF3-4CEF-9AA1-0807E682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85C-AE15-4987-8FB4-C349C69B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483-BBD6-48A5-ACC6-924B8637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DB7-AF76-4358-AA89-011AA10B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7E53-AD85-48C8-95FF-2184411A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AFF5-9602-4A15-89EC-08C2B762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2871-16B9-4C40-9EDC-39A05B9F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5DFB-99BE-4925-8D2E-4059E2C6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05F1-59A0-40C2-B40D-43EB139B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F32C-B640-4C3C-80F3-29CFE144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7B3D-1CC1-4C0A-A6B1-AE7618BE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EB8-6BA4-4A5C-AE2B-E2F8653B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D496-577D-4105-9D94-8000D097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9BF2-4466-4E1D-999B-CD20A1A5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ED9E-F32A-4A4B-9B00-E220EBF1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A780-0A86-4CC5-8FEF-F483802E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C378-000C-4805-8FA5-987354E1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5F1C-D45E-4759-981C-53E1EC10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BFD74-68CC-487A-A3FC-0EFBB4DD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1700-667A-42D0-ACFE-A107F439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DFCD-D88B-45E9-B7D0-D17C50AB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759D9-08CA-4186-B876-9543D92A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923-E3C9-4146-969C-D0D8D787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B4CFE-EC11-4470-B5A1-7121D24E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ED46-0615-4EFF-85B0-E685F73E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C40B-2FF1-41B5-BDE5-E5FD34D7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D5197-C6B4-4F62-A379-CDD058A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BE1B-3B5F-497F-BC81-00B0C6FC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6478-AF1D-462B-8102-CED13041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8060-5722-4523-A962-E8BCEC23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6C8-9D22-4C84-8FFE-CCE0B8CF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9DF-CDF4-47C5-ADDA-062ABE4F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4B5-8FAD-4821-9F99-6BC30990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2D4-D92F-412B-92A3-C6BFA393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527-8DD0-4284-A140-75FC3479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F8B-FF2D-4AE1-851D-309E2842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372D-56A8-480C-8F13-F9AB68170BD4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90FE-FD9F-47FB-BD0F-F66167DB32B3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DF0D-9159-4240-8843-F0D031CD65AE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03160" y="182160"/>
            <a:ext cx="8713800" cy="25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七章 人类活动对生物圈的影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 探究环境污染对生物的影响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圆角矩形 6">
            <a:hlinkClick r:id="rId1" action="ppaction://hlinksldjump"/>
          </p:cNvPr>
          <p:cNvSpPr/>
          <p:nvPr/>
        </p:nvSpPr>
        <p:spPr>
          <a:xfrm>
            <a:off x="4008600" y="282744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导学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菱形 8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菱形 9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圆角矩形 10">
            <a:hlinkClick r:id="rId2" action="ppaction://hlinksldjump"/>
          </p:cNvPr>
          <p:cNvSpPr/>
          <p:nvPr/>
        </p:nvSpPr>
        <p:spPr>
          <a:xfrm>
            <a:off x="4008600" y="364500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前预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圆角矩形 11">
            <a:hlinkClick r:id="rId3" action="ppaction://hlinksldjump"/>
          </p:cNvPr>
          <p:cNvSpPr/>
          <p:nvPr/>
        </p:nvSpPr>
        <p:spPr>
          <a:xfrm>
            <a:off x="4008600" y="443700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堂探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圆角矩形 12">
            <a:hlinkClick r:id="rId4" action="ppaction://hlinksldjump"/>
          </p:cNvPr>
          <p:cNvSpPr/>
          <p:nvPr/>
        </p:nvSpPr>
        <p:spPr>
          <a:xfrm>
            <a:off x="4008600" y="602136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圆角矩形 13">
            <a:hlinkClick r:id="rId5" action="ppaction://hlinksldjump"/>
          </p:cNvPr>
          <p:cNvSpPr/>
          <p:nvPr/>
        </p:nvSpPr>
        <p:spPr>
          <a:xfrm>
            <a:off x="4008600" y="522936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随堂检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1608120" y="901800"/>
            <a:ext cx="90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酸雨被称为“空中死神”，你知道什么叫酸雨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2208240" y="21675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酸雨顾名思义就是含有较强的酸性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PH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小于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5.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的雨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"/>
          <p:cNvSpPr/>
          <p:nvPr/>
        </p:nvSpPr>
        <p:spPr>
          <a:xfrm>
            <a:off x="1703520" y="30225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这种大气污染对人体哪个系统系统危害最大？将会引起哪些疾病？（从支气管炎 胃病、肺气肿有、肺结核、哮喘病、肺癌、皮肤癌选出两种主要病症即可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1847880" y="54795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对人体呼吸系统危害最大，将会引起支气管炎、哮喘病等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1590840" y="1197000"/>
            <a:ext cx="90630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酸雨是如何形成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控制酸雨有哪些根本措施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"/>
          <p:cNvSpPr/>
          <p:nvPr/>
        </p:nvSpPr>
        <p:spPr>
          <a:xfrm>
            <a:off x="1847880" y="1989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酸雨主要是人为地向大气排放大量的酸性物质造成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1990800" y="44308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通过净化装置，减少燃烧煤、石油等燃料时污染物的排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矩形 2"/>
          <p:cNvSpPr/>
          <p:nvPr/>
        </p:nvSpPr>
        <p:spPr>
          <a:xfrm>
            <a:off x="1755720" y="88092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探究二  温室效应增强和全球气候变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"/>
          <p:cNvSpPr/>
          <p:nvPr/>
        </p:nvSpPr>
        <p:spPr>
          <a:xfrm>
            <a:off x="1487520" y="1492200"/>
            <a:ext cx="90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目前全球变暖，气温升高，这种现象被称为温室效应，原因是大气中的二氧化碳等的浓度升高，导致地球平均气温不断上升。阅读课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11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试写出减缓温室效应的措施。（写出至少两点具体措施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9"/>
          <p:cNvSpPr/>
          <p:nvPr/>
        </p:nvSpPr>
        <p:spPr>
          <a:xfrm>
            <a:off x="1919160" y="4221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植树造林、保护植被、退耕还林、封山育林；减少燃料的燃烧、开发新能源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9224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1527120" y="131472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知识点一：酸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若人类一味发展工业，各种废气的排放，导致大气污染严重，形成酸雨的气体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二氧化碳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二氧化硫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氮气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水蒸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不是酸雨的危害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使土壤中的养分发生化学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使河流、湖泊、水源酸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直接危害植物的芽、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使土壤中汞、银、镉含量增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8356680" y="2551680"/>
            <a:ext cx="7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7354800" y="3950280"/>
            <a:ext cx="7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922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1527120" y="9532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选项中，不属于控制酸雨措施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减少工厂废气的排放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减少煤燃烧时污染物的排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减少生活、生产废水的排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减少汽车尾气的排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知识点二：其他环境污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4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近年来有不少媒体报道某些地方所产大米辐射超标．你认为造成这种“问题大米”原因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雨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        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大气污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水、土重金属污染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温室效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9709200" y="93564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9369360" y="49345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1523880" y="10360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目前许多地方都推行公共自行车政策，此举措既便利了公众也可以减少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大气污染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水污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土壤污染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固体废弃物污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知识点三：温室效应增强和全球气候变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6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科学家发现近百年来大气中的二氧化碳浓度逐年升高，导致这种变化的原因之一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野生动物大量灭绝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地震海啸频繁发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淡水资源严重污染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植被遭到严重破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6773760" y="129600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8764560" y="42372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5518080" y="83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夯实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1523880" y="18036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7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关于酸雨的叙述错误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雨被称为“空中死神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雨可以使河流和湖泊酸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雨是工厂排放的烟雾造成的，与汽车尾气无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雨直接危害植物的芽和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8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雨是指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pH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值为多少的大气降水？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＞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.6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＞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7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＜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.6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＜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8201160" y="16264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9117000" y="50043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523880" y="17910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9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发电厂可以利用煤、天然气、核能发电，这三种原料中最容易引发酸雨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天然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煤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核能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三者都可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在实验室条件下研究酸雨问题时，为了比较快、比较明显的获得试验结果，实验材料最好选择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成熟的叶片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    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幼苗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大树的根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    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树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7583400" y="176436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352600" y="425376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3"/>
          <p:cNvSpPr/>
          <p:nvPr/>
        </p:nvSpPr>
        <p:spPr>
          <a:xfrm>
            <a:off x="2103480" y="927000"/>
            <a:ext cx="7439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1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雨形成的原因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空气中的二氧化碳量太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工厂释放的二氧化硫和氮氧化物过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全球的降雨量过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森林火灾频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6588000" y="86580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6097680" y="41346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2103480" y="364320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2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类大量使用普通电池，长期大量地随意丢弃，可导致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温室效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重金属污染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雨形成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臭氧层形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527120" y="92304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3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不能减轻废旧电池危害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把废旧电池扔进生活垃圾桶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统一回收废旧电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使用充电电池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禁止生产含汞量高的电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4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温室效应使全球变暖，自然灾害频繁，对人类的影响很大，那么造成温室效应的物质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工业废水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汞、银、镉固体废弃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二氧化碳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二氧化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7961400" y="93096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2025720" y="48744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标题 1"/>
          <p:cNvSpPr/>
          <p:nvPr/>
        </p:nvSpPr>
        <p:spPr>
          <a:xfrm>
            <a:off x="2006640" y="6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"/>
              </a:rPr>
              <a:t>导学目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1754280" y="836640"/>
            <a:ext cx="826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目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1558800" y="1557360"/>
            <a:ext cx="9109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通过学习了解什么是酸雨、酸雨的形成及酸雨的危害，酸雨的控制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其他环境污染的产生及其危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形成比较牢固的环境保护意识并知道应该怎样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菱形 11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菱形 12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2944440" y="4357800"/>
            <a:ext cx="8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习重、难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1631880" y="4871880"/>
            <a:ext cx="92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酸雨和酸雨的形成及其危害，酸雨的控制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其他环境污染的产生及其危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1523880" y="25347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5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有关酸雨的叙述，不正确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雨可以使土壤中的养分发生化学变化，从而不能被植物吸收利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雨可以使河流和湖泊酸化，从而使鱼、虾等水生生物的生长和发育受到影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控制酸雨的根本措施是禁止使用煤和石油等燃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雨直接危害植物的芽和叶，严重时使成片的植物死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1"/>
          <p:cNvSpPr/>
          <p:nvPr/>
        </p:nvSpPr>
        <p:spPr>
          <a:xfrm>
            <a:off x="8427960" y="155952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1527120" y="16750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6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关于环境污染及原因关联错误的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重金属污染﹣﹣汞、银等进入自然环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白色污染﹣﹣大量的废弃的包装塑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臭氧层破坏﹣﹣大量使用氟利昂、排放含氮废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空气污染﹣﹣向水中排放有毒有害物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2103480" y="18309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1631880" y="643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1527120" y="1352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7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请将下列环境现象与相应的原因用线条连接起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15" descr=""/>
          <p:cNvPicPr/>
          <p:nvPr/>
        </p:nvPicPr>
        <p:blipFill>
          <a:blip r:embed="rId1"/>
          <a:stretch/>
        </p:blipFill>
        <p:spPr>
          <a:xfrm>
            <a:off x="1527120" y="2664000"/>
            <a:ext cx="3032280" cy="2220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6" descr=""/>
          <p:cNvPicPr/>
          <p:nvPr/>
        </p:nvPicPr>
        <p:blipFill>
          <a:blip r:embed="rId2"/>
          <a:stretch/>
        </p:blipFill>
        <p:spPr>
          <a:xfrm>
            <a:off x="5245200" y="2571840"/>
            <a:ext cx="5422680" cy="2295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"/>
          <p:cNvPicPr/>
          <p:nvPr/>
        </p:nvPicPr>
        <p:blipFill>
          <a:blip r:embed="rId3"/>
          <a:stretch/>
        </p:blipFill>
        <p:spPr>
          <a:xfrm>
            <a:off x="1527120" y="2471760"/>
            <a:ext cx="91407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9"/>
          <p:cNvSpPr/>
          <p:nvPr/>
        </p:nvSpPr>
        <p:spPr>
          <a:xfrm>
            <a:off x="1631880" y="643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1724040" y="2701440"/>
            <a:ext cx="88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8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世纪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7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年代开始，美国东北部及加拿大东南部地区的湖泊开始变质，水质酸化，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PH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一度低到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.4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，污染程度较弱的湖泊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PH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值仍有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.5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，依然带有极强的酸性。这样的情况使得动植物纷纷不堪忍受，大面积湖泊停止了呼吸，可谓一潭死水，实属惨不忍睹。在加拿大，其受酸雨影响的水域达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.2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万平方公里，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00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多个湖泊明显酸化。多伦多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979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年平均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PH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值为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.5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，安大略省萨德伯里周围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50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多个湖泊池塘中也总是漂浮死鱼，湖滨树木已然枯萎。请分析回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1617840" y="18759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酸雨主要是人为地向大气中排放大量的　　物质造成的。我国的酸雨主要是因大量燃烧含　　高的煤而形成的，此外，各种机动车排放的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也是形成酸雨的重要原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酸雨对生物的危害极大。酸雨可使河流和湖泊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，从而使鱼虾等水生生物的生长发育受到影响，严重时死亡；酸雨还直接危害植物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，严重时使成片的植物死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9390240" y="2058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尾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2103480" y="35377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酸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1785960" y="4494960"/>
            <a:ext cx="15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芽和叶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5"/>
          <p:cNvSpPr/>
          <p:nvPr/>
        </p:nvSpPr>
        <p:spPr>
          <a:xfrm>
            <a:off x="1933560" y="1563840"/>
            <a:ext cx="821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控制酸雨的根本措施是通过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 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                         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________________________________________________,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减少煤、石油等燃料中污染物的排放，并做好回收和利用这些污染物的工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2103480" y="2284920"/>
            <a:ext cx="79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通过净化装置，减少燃烧煤、石油等燃料时污染物的排放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图片 3" descr=""/>
          <p:cNvPicPr/>
          <p:nvPr/>
        </p:nvPicPr>
        <p:blipFill>
          <a:blip r:embed="rId1"/>
          <a:stretch/>
        </p:blipFill>
        <p:spPr>
          <a:xfrm>
            <a:off x="3287880" y="1916280"/>
            <a:ext cx="6324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标题 1"/>
          <p:cNvSpPr/>
          <p:nvPr/>
        </p:nvSpPr>
        <p:spPr>
          <a:xfrm>
            <a:off x="19303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菱形 2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菱形 2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1523880" y="1619640"/>
            <a:ext cx="898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知识点一  酸雨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10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概念：具有较强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的雨水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H&lt;5.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成因主要是人为地向大气排放大量的酸性物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形成过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: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等十水蒸气→酸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影响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使土壤中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发生化学变化，不能被植物吸收利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使河流和湖泊酸化，从而影响鱼虾等水生生物的生长发育，甚至导致死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5011560" y="201852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酸性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3849840" y="2967840"/>
            <a:ext cx="28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二氧化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4361040" y="396936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养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菱形 11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菱形 12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3778200" y="175824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水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7318440" y="32565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净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1911240" y="1847880"/>
            <a:ext cx="837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酸化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影响饮用，威胁人们的健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直接危害植物的芽和叶，甚至使植物死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控制酸雨的根本措施：通过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装置，减少燃烧煤、石油等燃料时污染物的排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1523880" y="1627200"/>
            <a:ext cx="898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知识点二  其他环境污染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1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危害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排入水中的有毒有害物质接触人体，可能会增加基因突变概率，诱发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水中、土壤中的金属污染物（如汞、镉、砷），通过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积累，最终危害人体健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其他环境污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我国的水污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情况：比较严重，河湖受污染而危害周边居民健康的事故时有发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5757840" y="246600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癌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2421000" y="347256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食物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1631880" y="1775160"/>
            <a:ext cx="898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治理政策法规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00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年颁布了《中华人民共和国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防治法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防治：应当坚持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为主、防治结合、综合治理的原则，优先保护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，严格控制各种污染物进入河流湖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大气污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固体废弃物污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2135160" y="148032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水污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5081760" y="198972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5719680" y="239796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饮用水水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"/>
          <p:cNvSpPr/>
          <p:nvPr/>
        </p:nvSpPr>
        <p:spPr>
          <a:xfrm>
            <a:off x="1523880" y="12812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点三  温室效应增强和全球气候变暖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温室效应的概念：地球大气中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气体，既能使太阳光顺畅地透射到大地，又能截留和吸收地表放散出的热量，起着温室上的玻璃一样的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因：化学燃料的大量开采和使用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等气体的排放量不断增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7664400" y="222480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8383680" y="415980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1689120" y="2394360"/>
            <a:ext cx="898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结果：导致地球平均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不断上升，全球气候变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影响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冰川加速融化、海平面逐渐               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一些地区的台风更加频繁，一些地区更加干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造成农作物减产和多种生物的生存危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控制措施：减少二氧化碳的排放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造林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5972040" y="157392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气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8397720" y="503784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植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1847880" y="10476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兰亭黑简体"/>
              </a:rPr>
              <a:t>探究一  酸雨形成以及治理措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1608120" y="1773360"/>
            <a:ext cx="906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据历史档案披露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5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月，某城市雾大无风，家庭和工厂排出的烟雾经久不散，每立方米大气中二氧化硫的含量高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毫克，居民健康普遍受到危害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天之内死亡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人。此外，流经该城市的主要河道也因此而受到污染，引起鱼类死亡，直接危害植物的芽和叶，严重时使成片的植物死亡，这都与此种类型大气污染能形成酸雨有关。请回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01:24:27Z</dcterms:created>
  <dc:creator>Windows 用户</dc:creator>
  <dc:description/>
  <dc:language>en-US</dc:language>
  <cp:lastModifiedBy>Windows 用户</cp:lastModifiedBy>
  <dcterms:modified xsi:type="dcterms:W3CDTF">2018-02-26T10:11:13Z</dcterms:modified>
  <cp:revision>3</cp:revision>
  <dc:subject/>
  <dc:title>PowerPoint 演示文稿</dc:title>
</cp:coreProperties>
</file>